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B6C7-AAAD-43A3-B15F-41A84F80E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7417-B750-4E67-8B21-AAE83CCF7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671A-3747-4327-8D42-9895F4CA3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8672-0360-412C-B20A-BA74048CB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3B33-83E1-41CB-B744-39C10AC96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8BD7-8024-4D35-93F6-061289C46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453F-6477-4FAE-BE53-A3DD830AF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C72E-C0A9-4F4D-9AE5-20D8AAABE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5A7B-934E-4224-9A30-7AD749B1D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D599-94E0-4CE5-9570-06BC5F58A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1546-0AA4-4E50-B71B-5441B9DA7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D411-25A3-4100-BB4A-7FB84B065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FC282-EA6E-4BA2-BB2F-8F708FB64A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0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lease copy the following wor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drillo- Brick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egadero - Sin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dera- Woo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vaplatos - Dishwas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spejo – Mirro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rno - Ov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á- Sof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llas - Chai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llón- Arm Chai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entana - Windo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fombra – Ru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rtinas - Curtai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uadros – Pictur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cho - Ro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48a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32523"/>
                </a:solidFill>
                <a:latin typeface="Calibri"/>
              </a:rPr>
              <a:t>TENER- to ha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12949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2523"/>
                </a:solidFill>
                <a:latin typeface="Calibri"/>
              </a:rPr>
              <a:t>Yo – Ten</a:t>
            </a:r>
            <a:r>
              <a:rPr b="1" lang="en-US" sz="4000" spc="-1" strike="noStrike" u="sng">
                <a:solidFill>
                  <a:srgbClr val="632523"/>
                </a:solidFill>
                <a:uFillTx/>
                <a:latin typeface="Calibri"/>
              </a:rPr>
              <a:t>g</a:t>
            </a:r>
            <a:r>
              <a:rPr b="1" lang="en-US" sz="4000" spc="-1" strike="noStrike">
                <a:solidFill>
                  <a:srgbClr val="632523"/>
                </a:solidFill>
                <a:latin typeface="Calibri"/>
              </a:rPr>
              <a:t>o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2523"/>
                </a:solidFill>
                <a:latin typeface="Calibri"/>
              </a:rPr>
              <a:t>Tu- T</a:t>
            </a:r>
            <a:r>
              <a:rPr b="1" lang="en-US" sz="4000" spc="-1" strike="noStrike" u="sng">
                <a:solidFill>
                  <a:srgbClr val="632523"/>
                </a:solidFill>
                <a:uFillTx/>
                <a:latin typeface="Calibri"/>
              </a:rPr>
              <a:t>ie</a:t>
            </a:r>
            <a:r>
              <a:rPr b="1" lang="en-US" sz="4000" spc="-1" strike="noStrike">
                <a:solidFill>
                  <a:srgbClr val="632523"/>
                </a:solidFill>
                <a:latin typeface="Calibri"/>
              </a:rPr>
              <a:t>n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2523"/>
                </a:solidFill>
                <a:latin typeface="Calibri"/>
              </a:rPr>
              <a:t>El/Ella/Ud. T</a:t>
            </a:r>
            <a:r>
              <a:rPr b="1" lang="en-US" sz="4000" spc="-1" strike="noStrike" u="sng">
                <a:solidFill>
                  <a:srgbClr val="632523"/>
                </a:solidFill>
                <a:uFillTx/>
                <a:latin typeface="Calibri"/>
              </a:rPr>
              <a:t>ie</a:t>
            </a:r>
            <a:r>
              <a:rPr b="1" lang="en-US" sz="4000" spc="-1" strike="noStrike">
                <a:solidFill>
                  <a:srgbClr val="632523"/>
                </a:solidFill>
                <a:latin typeface="Calibri"/>
              </a:rPr>
              <a:t>n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2523"/>
                </a:solidFill>
                <a:latin typeface="Calibri"/>
              </a:rPr>
              <a:t>Nosotros- Tenemo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2523"/>
                </a:solidFill>
                <a:latin typeface="Calibri"/>
              </a:rPr>
              <a:t>Ellos/Ellas/Uds. - T</a:t>
            </a:r>
            <a:r>
              <a:rPr b="1" lang="en-US" sz="4000" spc="-1" strike="noStrike" u="sng">
                <a:solidFill>
                  <a:srgbClr val="632523"/>
                </a:solidFill>
                <a:uFillTx/>
                <a:latin typeface="Calibri"/>
              </a:rPr>
              <a:t>ie</a:t>
            </a:r>
            <a:r>
              <a:rPr b="1" lang="en-US" sz="4000" spc="-1" strike="noStrike">
                <a:solidFill>
                  <a:srgbClr val="632523"/>
                </a:solidFill>
                <a:latin typeface="Calibri"/>
              </a:rPr>
              <a:t>ne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b9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ules about conjugating Ten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ner is irregular- it is differ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 form has a g in the conjug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u, el, ella, ud, ellos, ellas, uds all have an IE in the spell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sotros does not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b9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1. Use tener to state things you hav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21896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Yo tengo dos herman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I have two sist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Tu tienes un perro grand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You have a big do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Ella tiene una chaqueta boni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She has a pretty jacke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Nosotros tenemos libros de espano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We have Spanish book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tedes tienen carros viejo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all have old ca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60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. Use tener to state your a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¿</a:t>
            </a: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Cuantos años tienes tu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old are you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ngo quince año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**Cuantos años tiene la Sra. Blair????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93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3. Use tener to describe a “physical” state or feeling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ungry – hamb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zon – truth, righ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sty – se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isa - hur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t -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lo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ld -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io -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leepy – sueño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Use tener with thes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cared – miedo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hrases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hamed - vergüenz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a2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4. To state things you have to d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state an action you must do you use ten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English: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I have to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n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Spanish : Tengo </a:t>
            </a:r>
            <a:r>
              <a:rPr b="0" lang="en-US" sz="3200" spc="-1" strike="noStrike" u="sng">
                <a:solidFill>
                  <a:srgbClr val="17375e"/>
                </a:solidFill>
                <a:uFillTx/>
                <a:latin typeface="Calibri"/>
              </a:rPr>
              <a:t>qu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ila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“QUE” connects the form of tener with the action that needs to be done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 accent on the que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1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s, Ejemplo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l almuerzo hoy es terrible.  No tengo hamb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y monstros en el dormitorio, tengo miedo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o papas fritas con mucho sal, tengo s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studio para la clase de espanol muy tarde, hoy tengo mucho suen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cido una nota mala en la clase de historia. Tengo vergüenz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9T17:29:56Z</dcterms:created>
  <dc:creator>Noemi Blair</dc:creator>
  <dc:description/>
  <dc:language>en-US</dc:language>
  <cp:lastModifiedBy>Noemi Blair</cp:lastModifiedBy>
  <dcterms:modified xsi:type="dcterms:W3CDTF">2012-04-03T19:29:40Z</dcterms:modified>
  <cp:revision>3</cp:revision>
  <dc:subject/>
  <dc:title>Please copy the following words</dc:title>
</cp:coreProperties>
</file>