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7C6-7F40-4BC6-819F-505556F1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182-96E5-4A5B-911B-ABE9AE07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B20-863C-4F7D-8D5B-B32DE5E9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697-5570-466A-9423-A10CF2DC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8BB-968B-4785-9A30-9B88747B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484-AC7B-4A91-A02C-0D5FB0F4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0B4-A958-4350-BEF0-C423682E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86F-3829-410E-B2D4-BCCA0E4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A1A-F0B7-4AE4-B1B7-4AA26686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BBC-34B8-4ADB-A9FB-1052FE4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60A-4E36-4515-9D07-B3F521F7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66A-2048-420A-9A36-0D7A0F8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9600-AD34-4FE5-BD7C-C247002F5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copy the following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drillo- Bri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gadero - S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ra-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vaplatos - Dishwas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jo – Mirr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no - O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á- Sof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as - Ch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ón- Arm Cha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tana -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ombra – Ru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inas - Cur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adros – Pi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o -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Calibri"/>
              </a:rPr>
              <a:t>TENER- to 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Yo – Ten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g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Tu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/Ella/Ud.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osotros- Tene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los/Ellas/Uds. 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s about conjugating Te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er is irregular- it is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 form has a g in the 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, el, ella, ud, ellos, ellas, uds all have an IE in the spel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 does no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Use tener to state things you h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 tengo dos herm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 have two sis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u tienes un perro gra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u have a big d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la tiene una chaqueta bon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he has a pretty jac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Nosotros tenemos libros de espan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We have Spanish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tedes tienen carros viej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ll have old c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Use tener to state your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uantos años tienes 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old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go quince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Cuantos años tiene la Sra. Blair??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Use tener to describe a “physical” state or feel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gry – hamb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zon – truth,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sty – 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sa - hu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t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o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eepy – sueñ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ener with th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ed – mied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ras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hamed -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o state things you have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state an action you must do you use 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 have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panish : Tengo </a:t>
            </a:r>
            <a:r>
              <a:rPr b="0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q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QUE” connects the form of tener with the action that needs to be do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cent on the qu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, Ejempl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almuerzo hoy es terrible.  No tengo ha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 monstros en el dormitorio, tengo mie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o papas fritas con mucho sal, tengo 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o para la clase de espanol muy tarde, hoy tengo mucho s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ido una nota mala en la clase de historia. Tengo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29:56Z</dcterms:created>
  <dc:creator>Noemi Blair</dc:creator>
  <dc:description/>
  <dc:language>en-US</dc:language>
  <cp:lastModifiedBy>Noemi Blair</cp:lastModifiedBy>
  <dcterms:modified xsi:type="dcterms:W3CDTF">2012-04-03T19:29:40Z</dcterms:modified>
  <cp:revision>3</cp:revision>
  <dc:subject/>
  <dc:title>Please copy the following words</dc:title>
</cp:coreProperties>
</file>