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EEB-EA55-47DF-8902-CD5770CD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1AF-F85E-4B6A-B9DB-B7635C4E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573-6406-401D-ABD8-D8806E06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D6F-77AC-47BE-99D7-20B5A964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0D0-814A-40A5-AE5D-A02FF16C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84F-04B7-4642-86D9-F9ABE79E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7C8-A871-4879-BDD1-6B6B5E9A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061-4C5E-4010-816C-1B2AE841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939-EDF2-41D4-907C-1B6AD954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BC8-D9C6-49B6-8D34-CE7D9FCE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E96-2788-4C49-BCA0-C7832ED0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34A-1B68-4341-A94D-D921FA0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561F-7857-4259-935F-F9090FC8A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copy the following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drillo- Bri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gadero - S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ra-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vaplatos - Dishwa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jo – Mirr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no - O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á- Sof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as - Ch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ón- Arm Cha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tana -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ombra – Ru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inas - Cur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adros – Pi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o -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Calibri"/>
              </a:rPr>
              <a:t>TENER- to 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Yo – Ten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g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Tu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/Ella/Ud.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osotros- Ten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los/Ellas/Uds. 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s about conjugating Te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er is irregular- it is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 form has a g in the 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, el, ella, ud, ellos, ellas, uds all have an IE in the spe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 does no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Use tener to state things you 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 tengo dos herm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 have two si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u tienes un perro gra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u have a big d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la tiene una chaqueta bon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he has a pretty ja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Nosotros tenemos libros de esp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We have Spanish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tedes tienen carros viej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ll have old c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Use tener to state your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uantos años tienes 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go quince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Cuantos años tiene la Sra. Blair?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Use tener to describe a “physical” state or fee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gry – hamb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zon – truth,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sty –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a - 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t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o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eepy – sueñ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ener with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ed – mied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ras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amed -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o state things you hav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tate an action you must do you use 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 have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panish : Tengo </a:t>
            </a:r>
            <a:r>
              <a:rPr b="0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q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QUE” connects the form of tener with the action that needs to be do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cent on the qu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, Ejempl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almuerzo hoy es terrible.  No tengo ha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monstros en el dormitorio, tengo mie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o papas fritas con mucho sal, tengo 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o para la clase de espanol muy tarde, hoy tengo mucho s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ido una nota mala en la clase de historia. Tengo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29:56Z</dcterms:created>
  <dc:creator>Noemi Blair</dc:creator>
  <dc:description/>
  <dc:language>en-US</dc:language>
  <cp:lastModifiedBy>Noemi Blair</cp:lastModifiedBy>
  <dcterms:modified xsi:type="dcterms:W3CDTF">2012-04-03T19:29:40Z</dcterms:modified>
  <cp:revision>3</cp:revision>
  <dc:subject/>
  <dc:title>Please copy the following words</dc:title>
</cp:coreProperties>
</file>