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65C-89F7-4E89-8961-DC2F55A3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123-5CD7-444D-BD09-E08DE7D6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DE5-FC94-4D18-BACE-00AF7423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14C-F8E1-48AA-891C-6D1E0B03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D27-1845-4B20-A98D-A144A0A1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C5C-E635-4798-8F10-B8AA73B5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87B-97D2-4C9C-96EF-630259DC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6FF-36E6-474B-824E-95C9EF4C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B55-8103-4B08-9CED-7A9B11F0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CB6-1BAF-417D-B276-33374E38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698-4B2B-457C-A4CF-71161B07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BE6-F92C-41B6-B7B5-606D422A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3CF4-7B7C-472F-8951-A58F9CE74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ease copy the following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drillo- Bri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gadero - S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ra- Wo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vaplatos - Dishwas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jo – Mirr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no - O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á- Sof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as - Ch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ón- Arm Chai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tana -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ombra – Ru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tinas - Cur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adros – Pic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o - Ro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Calibri"/>
              </a:rPr>
              <a:t>TENER- to h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Yo – Ten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g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Tu-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El/Ella/Ud.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osotros- Tene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Ellos/Ellas/Uds. -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s about conjugating Te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er is irregular- it is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 form has a g in the conju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, el, ella, ud, ellos, ellas, uds all have an IE in the spel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sotros does no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Use tener to state things you h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Yo tengo dos herma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 have two sis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Tu tienes un perro gra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You have a big do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la tiene una chaqueta bon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he has a pretty jack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Nosotros tenemos libros de espan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We have Spanish boo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tedes tienen carros viej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all have old c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Use tener to state your 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uantos años tienes t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old are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go quince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*Cuantos años tiene la Sra. Blair??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 Use tener to describe a “physical” state or feel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gry – hamb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zon – truth, 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sty – 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sa - hu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t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o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eepy – sueñ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tener with th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red – mied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hras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hamed - vergü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To state things you have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state an action you must do you use te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nglish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 have 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panish : Tengo </a:t>
            </a:r>
            <a:r>
              <a:rPr b="0" lang="en-US" sz="3200" spc="-1" strike="noStrike" u="sng">
                <a:solidFill>
                  <a:srgbClr val="17375e"/>
                </a:solidFill>
                <a:uFillTx/>
                <a:latin typeface="Calibri"/>
              </a:rPr>
              <a:t>qu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“QUE” connects the form of tener with the action that needs to be don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cent on the qu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, Ejemplo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almuerzo hoy es terrible.  No tengo ha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 monstros en el dormitorio, tengo mied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o papas fritas con mucho sal, tengo 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dio para la clase de espanol muy tarde, hoy tengo mucho sue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ido una nota mala en la clase de historia. Tengo vergü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29:56Z</dcterms:created>
  <dc:creator>Noemi Blair</dc:creator>
  <dc:description/>
  <dc:language>en-US</dc:language>
  <cp:lastModifiedBy>Noemi Blair</cp:lastModifiedBy>
  <dcterms:modified xsi:type="dcterms:W3CDTF">2012-04-03T19:29:40Z</dcterms:modified>
  <cp:revision>3</cp:revision>
  <dc:subject/>
  <dc:title>Please copy the following words</dc:title>
</cp:coreProperties>
</file>