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2E8-398B-4AED-A413-8F213525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2FC-0B6A-4EDA-8828-253F6B21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2894-AD21-4567-B257-96E895DF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D6C-DD30-4AF7-9DE7-88DAEE74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0F3-A0BC-4AF8-8A73-6891E55E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CC4-F4D6-4901-B043-EF3BB7A3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7F7-4D2B-4389-ADB7-8692E768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1AE-F49B-49B6-9612-B224C26E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DBD-B942-4C86-BEAE-AB4B6561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CEF-04BC-4326-9C96-C620226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02F-7F56-40A7-AC1F-CA9A3782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2CB-16EA-4800-98BF-1731D2B3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D58F-6516-4F23-8BF5-F3DC12192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ase copy the following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drillo- Bri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gadero - S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ra- Wo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vaplatos - Dishwas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jo – Mirr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no - O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á- Sof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as - Ch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ón- Arm Chai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tana -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ombra – Ru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tinas - Cur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adros – Pic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o - Ro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Calibri"/>
              </a:rPr>
              <a:t>TENER- to h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Yo – Ten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g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Tu-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El/Ella/Ud.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osotros- Tenem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Ellos/Ellas/Uds. - T</a:t>
            </a:r>
            <a:r>
              <a:rPr b="1" lang="en-US" sz="4000" spc="-1" strike="noStrike" u="sng">
                <a:solidFill>
                  <a:srgbClr val="632523"/>
                </a:solidFill>
                <a:uFillTx/>
                <a:latin typeface="Calibri"/>
              </a:rPr>
              <a:t>ie</a:t>
            </a:r>
            <a:r>
              <a:rPr b="1" lang="en-US" sz="4000" spc="-1" strike="noStrike">
                <a:solidFill>
                  <a:srgbClr val="632523"/>
                </a:solidFill>
                <a:latin typeface="Calibri"/>
              </a:rPr>
              <a:t>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s about conjugating Te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er is irregular- it is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 form has a g in the conju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, el, ella, ud, ellos, ellas, uds all have an IE in the spel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sotros does no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Use tener to state things you h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Yo tengo dos herma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 have two sis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Tu tienes un perro gra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You have a big do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la tiene una chaqueta bon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She has a pretty jack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Nosotros tenemos libros de espan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We have Spanish boo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tedes tienen carros viej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ll have old c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Use tener to state your 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uantos años tienes t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old a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go quince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*Cuantos años tiene la Sra. Blair??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 Use tener to describe a “physical” state or feel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gry – hamb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zon – truth, 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sty – 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sa - hu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t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o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eepy – sueñ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ener with th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red – mied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hras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hamed - vergü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To state things you have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state an action you must do you use te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nglish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 have 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panish : Tengo </a:t>
            </a:r>
            <a:r>
              <a:rPr b="0" lang="en-US" sz="3200" spc="-1" strike="noStrike" u="sng">
                <a:solidFill>
                  <a:srgbClr val="17375e"/>
                </a:solidFill>
                <a:uFillTx/>
                <a:latin typeface="Calibri"/>
              </a:rPr>
              <a:t>qu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“QUE” connects the form of tener with the action that needs to be don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cent on the qu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, Ejemplo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almuerzo hoy es terrible.  No tengo ha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 monstros en el dormitorio, tengo mied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o papas fritas con mucho sal, tengo 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udio para la clase de espanol muy tarde, hoy tengo mucho sue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ido una nota mala en la clase de historia. Tengo vergü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29:56Z</dcterms:created>
  <dc:creator>Noemi Blair</dc:creator>
  <dc:description/>
  <dc:language>en-US</dc:language>
  <cp:lastModifiedBy>Noemi Blair</cp:lastModifiedBy>
  <dcterms:modified xsi:type="dcterms:W3CDTF">2012-04-03T19:29:40Z</dcterms:modified>
  <cp:revision>3</cp:revision>
  <dc:subject/>
  <dc:title>Please copy the following words</dc:title>
</cp:coreProperties>
</file>