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4A5-28FD-480A-B77F-7D08881F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863-9609-4D2C-A325-FC006F8C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1F6-67CE-4698-B847-31D9AE7D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C59-5B61-4450-92CF-0B154E63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A14-7C7D-4402-8A97-2B105240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BB3-4D17-492C-981B-652E1CA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6D8-C455-4DB0-B335-7A9C6D3E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6F5-2440-448C-9B5D-4A5383C8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EE4-C2F5-4120-9EFF-B7381770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68A-7F46-4ABA-B764-614B4AB2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4F2-894E-4D96-899B-66687CE4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676-B6B6-48E3-85B0-D1A0B3FD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5F71-3D3B-4A24-A302-B32B604AC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copy the following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drillo- Bri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gadero - S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ra-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vaplatos - Dishwas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jo – Mirr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no - O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á- Sof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as - Ch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ón- Arm Chai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tana -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ombra – Ru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inas - Cur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adros – Pic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o - Ro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Calibri"/>
              </a:rPr>
              <a:t>TENER- to 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Yo – Ten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g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Tu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/Ella/Ud.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osotros- Tene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los/Ellas/Uds. 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s about conjugating Te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er is irregular- it is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 form has a g in the conju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, el, ella, ud, ellos, ellas, uds all have an IE in the spel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otros does no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Use tener to state things you h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 tengo dos herma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 have two sis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Tu tienes un perro gra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u have a big do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la tiene una chaqueta bon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he has a pretty jac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Nosotros tenemos libros de espan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We have Spanish boo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tedes tienen carros viej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ll have old c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Use tener to state your 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uantos años tienes 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old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go quince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*Cuantos años tiene la Sra. Blair??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Use tener to describe a “physical” state or feel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gry – hamb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zon – truth, 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sty – 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sa - hu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t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o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eepy – sueñ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ener with th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red – mied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ras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hamed -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To state things you have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state an action you must do you use te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 have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panish : Tengo </a:t>
            </a:r>
            <a:r>
              <a:rPr b="0" lang="en-US" sz="3200" spc="-1" strike="noStrike" u="sng">
                <a:solidFill>
                  <a:srgbClr val="17375e"/>
                </a:solidFill>
                <a:uFillTx/>
                <a:latin typeface="Calibri"/>
              </a:rPr>
              <a:t>q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QUE” connects the form of tener with the action that needs to be do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cent on the qu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, Ejempl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almuerzo hoy es terrible.  No tengo ha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 monstros en el dormitorio, tengo mied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o papas fritas con mucho sal, tengo 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o para la clase de espanol muy tarde, hoy tengo mucho su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ido una nota mala en la clase de historia. Tengo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29:56Z</dcterms:created>
  <dc:creator>Noemi Blair</dc:creator>
  <dc:description/>
  <dc:language>en-US</dc:language>
  <cp:lastModifiedBy>Noemi Blair</cp:lastModifiedBy>
  <dcterms:modified xsi:type="dcterms:W3CDTF">2012-04-03T19:29:40Z</dcterms:modified>
  <cp:revision>3</cp:revision>
  <dc:subject/>
  <dc:title>Please copy the following words</dc:title>
</cp:coreProperties>
</file>