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4CB-882A-4A3D-9D30-8289242A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E12-0DD3-4ADA-A61C-B56551EB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71C-64FE-428B-AB7F-1F637A5E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6BA-043B-4D05-978B-AE7F0DC7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31E-E149-4330-92B4-C1C61C0A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374-0FCA-496E-A3A0-54DFC48E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A78-14B9-4C64-A419-4366A376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248-931E-487D-80FD-5C0671F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81B-63F8-4DB4-A880-1DBE7FBE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DDE-49B4-4983-88A8-7261C0A5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973-99F7-4ABE-BD8C-6E568047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3D3-1CD9-41B0-91C4-B2509441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FE2C-2E64-437F-A1ED-660690C80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odoni MT Black"/>
              </a:rPr>
              <a:t>Interrog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5410080"/>
          </a:xfrm>
          <a:prstGeom prst="rect">
            <a:avLst/>
          </a:prstGeom>
          <a:solidFill>
            <a:srgbClr val="99cc00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Qué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Cómo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Quién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o  (K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ndo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Dónde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nto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How many/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l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Por qué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Gender of 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Spanish words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end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That means they are masculine and femini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st words that are masculine end in an 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st words that are feminine end in an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 libro = The book (mascu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computadora = The computer (femin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muchacha = The gi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muchacho = The 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Rage Italic"/>
                <a:ea typeface="Arial"/>
              </a:rPr>
              <a:t>¡</a:t>
            </a:r>
            <a:r>
              <a:rPr b="0" lang="en-US" sz="6000" spc="-1" strike="noStrike">
                <a:solidFill>
                  <a:srgbClr val="0066ff"/>
                </a:solidFill>
                <a:latin typeface="Rage Italic"/>
              </a:rPr>
              <a:t>Te toca a t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masculine or femin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and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g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olígra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words do not end in A o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Lapíz;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what do I do????  MEMORIZE THEM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apí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las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words are masculine but end in an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king nouns pl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ing the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Century Gothic"/>
              </a:rPr>
              <a:t>nou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lur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vowel just add 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igre….tig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consonant add 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árbol…árbol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Z change it to C and add 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Lapíz…lap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ES or IS it does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L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Forte"/>
              </a:rPr>
              <a:t>Articles in Span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rticles in English : the, a, an,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re are two types of 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finite Articles – the (speci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Indefinite Articles – a, an, some (not speci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In Spanish there are four definite articles and four indefinite 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rticles must match the noun in gender and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The Articles- Los Arti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e Artic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culine Singular (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minine Singular (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culine Plural (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minine Plur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tigre – The tiger;   Los tigres -The ti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leon – The lion;    Los leones – The l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asa – The house; Las casas –The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definite 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sculin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eminin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o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sculine Pl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a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eminine Pl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 alum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lum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uchach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muchach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cles- Los Arti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12:53Z</dcterms:created>
  <dc:creator>nwagner</dc:creator>
  <dc:description/>
  <dc:language>en-US</dc:language>
  <cp:lastModifiedBy>nwagner</cp:lastModifiedBy>
  <dcterms:modified xsi:type="dcterms:W3CDTF">2009-09-03T17:39:21Z</dcterms:modified>
  <cp:revision>4</cp:revision>
  <dc:subject/>
  <dc:title>Interrogatives</dc:title>
</cp:coreProperties>
</file>