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D04-8CA7-4D2B-B19D-EE4A873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F2D-F7D4-428D-889B-9BF43A53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F5C-85B2-4996-B135-B5840FC2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DD0-B036-40AB-98EA-720441AD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1FB-FA3A-4631-BE9D-8C3EA953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443-8C38-4F3D-8577-F944F8AD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368-EE00-49A6-927C-397F667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740-D331-4D39-BEA5-568933B4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580-4D1C-4931-8438-65F3AE79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E93-3937-4C93-A825-038FC8F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E33-9CA1-4F11-AB57-FC68EC7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F7C-4224-4C9A-A7B2-64017645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4447-6F01-448B-9517-01A2D83E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odoni MT Black"/>
              </a:rPr>
              <a:t>Interrog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10080"/>
          </a:xfrm>
          <a:prstGeom prst="rect">
            <a:avLst/>
          </a:prstGeom>
          <a:solidFill>
            <a:srgbClr val="99cc00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Qué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Cómo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Quién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o  (K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d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Dónde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t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How many/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l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Por qué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Gender of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Spanish words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end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That means they are masculine and femini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masculine end in an 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feminine end in an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 libro = The book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computadora = The computer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muchacha = The gi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uchacho = Th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Rage Italic"/>
                <a:ea typeface="Arial"/>
              </a:rPr>
              <a:t>¡</a:t>
            </a:r>
            <a:r>
              <a:rPr b="0" lang="en-US" sz="6000" spc="-1" strike="noStrike">
                <a:solidFill>
                  <a:srgbClr val="0066ff"/>
                </a:solidFill>
                <a:latin typeface="Rage Italic"/>
              </a:rPr>
              <a:t>Te toca a t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masculine or femin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and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g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olígra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do not end in A o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Lapíz;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at do I do????  MEMORIZE THEM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apí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la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are masculine but end in an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king nouns pl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ing the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entury Gothic"/>
              </a:rPr>
              <a:t>nou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lur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vowel just add 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igre….tig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consonant add 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árbol…árbol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Z change it to C and add 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apíz…lap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ES or IS it 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Forte"/>
              </a:rPr>
              <a:t>Articles in Spa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rticles in English : the, a, an,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re are two types of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finite Articles – the (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definite Articles – a, an, some (not 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 Spanish there are four definite articles and four indefinit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ticles must match the noun in gender and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e Artic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Singular (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Singular (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Plural (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Plur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tigre – The tiger;   Los tigres -The ti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leon – The lion;    Los leones – The 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asa – The house; Las casas –The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definite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12:53Z</dcterms:created>
  <dc:creator>nwagner</dc:creator>
  <dc:description/>
  <dc:language>en-US</dc:language>
  <cp:lastModifiedBy>nwagner</cp:lastModifiedBy>
  <dcterms:modified xsi:type="dcterms:W3CDTF">2009-09-03T17:39:21Z</dcterms:modified>
  <cp:revision>4</cp:revision>
  <dc:subject/>
  <dc:title>Interrogatives</dc:title>
</cp:coreProperties>
</file>