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49E-7B2E-451F-9A1F-A710D06F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682-E288-4ABB-9CD1-CC5C6A49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143-2835-417D-9FC4-F6727952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6FB-0292-432D-A509-8B4BACC6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5F8-A5B5-4B46-AF3A-98357D79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2F5-F692-4FF8-B345-34BF241D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257-5169-4533-B666-7E46AE42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A85-ADA1-4FF0-9D48-AE7121EE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1A7-0AA8-439F-AE2A-24ACA209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6B6-99E5-4661-BDF7-A3E9A2A8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EA9-B53B-48FA-8639-E272E705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431-36A4-4F9B-9274-C9019789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0558-2BE7-45F9-8E05-25DCAB0D4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238880" cy="716040"/>
          </a:xfrm>
          <a:prstGeom prst="rect">
            <a:avLst/>
          </a:prstGeom>
          <a:solidFill>
            <a:srgbClr val="99cc00"/>
          </a:solidFill>
          <a:ln w="38160">
            <a:solidFill>
              <a:srgbClr val="ff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Colores y A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tisse ITC"/>
              </a:rPr>
              <a:t>Blanc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Matisse ITC"/>
              </a:rPr>
              <a:t>Azu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atisse ITC"/>
              </a:rPr>
              <a:t>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Matisse ITC"/>
              </a:rPr>
              <a:t>V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atisse ITC"/>
              </a:rPr>
              <a:t>Amar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Matisse ITC"/>
              </a:rPr>
              <a:t>Na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Matisse ITC"/>
              </a:rPr>
              <a:t>Mor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Matisse ITC"/>
              </a:rPr>
              <a:t>Mo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Matiss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Matisse ITC"/>
              </a:rPr>
              <a:t>Ro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133720"/>
            <a:ext cx="5715000" cy="44956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Bradley Hand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Cubism- art style from ear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radley Hand ITC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Objects are broken 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and re-assem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2. Surrealism- culture mo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including 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at often h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philosophic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1219320"/>
            <a:ext cx="2209680" cy="761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blo Picass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usicians and Little 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724280" cy="4724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33717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809880" cy="5364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609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r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an Miró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ellation and Singing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876920" cy="464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3162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24000" y="500040"/>
            <a:ext cx="6696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vador Domingo Felipe Jacinto Dalí y Domène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rsistence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22:40:44Z</dcterms:created>
  <dc:creator>Noemi Wagner</dc:creator>
  <dc:description/>
  <dc:language>en-US</dc:language>
  <cp:lastModifiedBy>nwagner</cp:lastModifiedBy>
  <dcterms:modified xsi:type="dcterms:W3CDTF">2009-08-26T13:09:37Z</dcterms:modified>
  <cp:revision>3</cp:revision>
  <dc:subject/>
  <dc:title>Pablo Picasso Spain Three Musicians</dc:title>
</cp:coreProperties>
</file>