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586-90C9-41F0-A74E-4989662F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CD9-EEA5-4252-83BF-C61441E0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214-766C-4D4D-8D2B-3B7819D2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8D3-CEF3-4042-B01E-C715E76F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3A8-3F18-4526-BC05-70D3DDAE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B49-0F9F-407D-A2C4-3AF5564E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2CB-724A-457A-A6B7-701C5B90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6A0-F84A-4687-95F2-B525EEB9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2C5-9779-4C59-BA60-1552D8F6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D24-0B8E-4CAC-B622-9AEF745E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F6E-4CCE-47DD-8C6F-0C6596FB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F94-1343-4730-9B0D-D5FDC12B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FB06-19AD-4B12-A549-A95297530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238880" cy="716040"/>
          </a:xfrm>
          <a:prstGeom prst="rect">
            <a:avLst/>
          </a:prstGeom>
          <a:solidFill>
            <a:srgbClr val="99cc00"/>
          </a:solidFill>
          <a:ln w="3816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Colores y A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isse ITC"/>
              </a:rPr>
              <a:t>Blan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atisse ITC"/>
              </a:rPr>
              <a:t>Azu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tisse ITC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atisse ITC"/>
              </a:rPr>
              <a:t>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atisse ITC"/>
              </a:rPr>
              <a:t>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Matisse ITC"/>
              </a:rPr>
              <a:t>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Matisse ITC"/>
              </a:rPr>
              <a:t>Mor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Matisse ITC"/>
              </a:rPr>
              <a:t>M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Matisse ITC"/>
              </a:rPr>
              <a:t>Ro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133720"/>
            <a:ext cx="5715000" cy="44956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Bradley Hand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Cubism- art style from ear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radley Hand ITC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bjects are broken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nd re-assem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. Surrealism- culture m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ncluding 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at often h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philosoph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219320"/>
            <a:ext cx="220968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blo Picas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usicians and Little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33717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809880" cy="536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60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r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n Miró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ellation and Singing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876920" cy="464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162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4000" y="500040"/>
            <a:ext cx="6696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vador Domingo Felipe Jacinto Dalí y Domèn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sistence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22:40:44Z</dcterms:created>
  <dc:creator>Noemi Wagner</dc:creator>
  <dc:description/>
  <dc:language>en-US</dc:language>
  <cp:lastModifiedBy>nwagner</cp:lastModifiedBy>
  <dcterms:modified xsi:type="dcterms:W3CDTF">2009-08-26T13:09:37Z</dcterms:modified>
  <cp:revision>3</cp:revision>
  <dc:subject/>
  <dc:title>Pablo Picasso Spain Three Musicians</dc:title>
</cp:coreProperties>
</file>