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37C-EA20-46E5-8B23-62755AEB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8D1-7F88-482A-AE5B-850A0E4F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51E1-4CB6-4474-86B7-15C00B9C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3DC-EA59-4A33-BAB6-0C3D6311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0FA-B3B4-474B-9734-D64AF7EF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3D3-65F3-4491-A485-A535D5EC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1B3-4514-474F-8EA1-E2D90648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52B-FC22-4173-93FB-F2DC3AA5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6E1-5951-4144-B585-5F0F4DF2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1E6-47C4-4FE8-B9F0-34700EA0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1A1-27D2-46AB-906F-002BE876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00B-30AE-4C6F-B945-2F9E3DAD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64DD-28D6-44AE-AA38-63F4F6B6A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238880" cy="716040"/>
          </a:xfrm>
          <a:prstGeom prst="rect">
            <a:avLst/>
          </a:prstGeom>
          <a:solidFill>
            <a:srgbClr val="99cc00"/>
          </a:solidFill>
          <a:ln w="38160">
            <a:solidFill>
              <a:srgbClr val="ff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Colores y A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tisse ITC"/>
              </a:rPr>
              <a:t>Blanc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Matisse ITC"/>
              </a:rPr>
              <a:t>Azu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tisse ITC"/>
              </a:rPr>
              <a:t>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Matisse ITC"/>
              </a:rPr>
              <a:t>V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atisse ITC"/>
              </a:rPr>
              <a:t>Amar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Matisse ITC"/>
              </a:rPr>
              <a:t>Na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Matisse ITC"/>
              </a:rPr>
              <a:t>Mor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Matisse ITC"/>
              </a:rPr>
              <a:t>Mo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Matisse ITC"/>
              </a:rPr>
              <a:t>Ro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133720"/>
            <a:ext cx="5715000" cy="44956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Bradley Hand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Cubism- art style from ear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radley Hand ITC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Objects are broken 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and re-assem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2. Surrealism- culture mo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including 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at often h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philosoph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1219320"/>
            <a:ext cx="2209680" cy="761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blo Picass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usicians and Little 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724280" cy="4724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33717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3809880" cy="5364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609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r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an Miró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ellation and Singing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876920" cy="464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3162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24000" y="500040"/>
            <a:ext cx="6696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vador Domingo Felipe Jacinto Dalí y Domène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sistence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22:40:44Z</dcterms:created>
  <dc:creator>Noemi Wagner</dc:creator>
  <dc:description/>
  <dc:language>en-US</dc:language>
  <cp:lastModifiedBy>nwagner</cp:lastModifiedBy>
  <dcterms:modified xsi:type="dcterms:W3CDTF">2009-08-26T13:09:37Z</dcterms:modified>
  <cp:revision>3</cp:revision>
  <dc:subject/>
  <dc:title>Pablo Picasso Spain Three Musicians</dc:title>
</cp:coreProperties>
</file>