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DAD-E94D-4A1B-8B15-FBD1A1E5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29B-2A0B-4C1F-8FD6-56038200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04D-8073-4671-8670-834F9D38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B7D-01B4-416F-AFF3-602621A2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A32-87E4-4CD8-AE6C-C285F1A3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ABB-B60F-4F13-81F1-DD989EE3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0C2-751E-4D16-8F9E-DC24DF37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766-D70F-4484-B91B-9A2C7610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BDB-4918-4EB6-A003-F10C95C6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BFA-9801-4B17-B4CB-06F08AE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049-CF49-4D3D-A3E7-E33234D4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FBD-F0A7-40A2-8581-AF641DE5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DC88-A0D9-4B85-9B74-E95CC709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238880" cy="716040"/>
          </a:xfrm>
          <a:prstGeom prst="rect">
            <a:avLst/>
          </a:prstGeom>
          <a:solidFill>
            <a:srgbClr val="99cc00"/>
          </a:solidFill>
          <a:ln w="381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Colores y A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isse ITC"/>
              </a:rPr>
              <a:t>Blan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atisse ITC"/>
              </a:rPr>
              <a:t>Azu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tisse ITC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atisse ITC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atisse ITC"/>
              </a:rPr>
              <a:t>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Matisse ITC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Matisse ITC"/>
              </a:rPr>
              <a:t>Mo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Matisse ITC"/>
              </a:rPr>
              <a:t>M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Matisse ITC"/>
              </a:rPr>
              <a:t>Ro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133720"/>
            <a:ext cx="5715000" cy="44956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Cubism- art style from 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radley Hand ITC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bjects are broken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nd re-assem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. Surrealism- culture m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ncluding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at often h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philosoph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219320"/>
            <a:ext cx="220968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blo Picas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usicians and Little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3717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809880" cy="536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60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r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 Miró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ellation and Singing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876920" cy="464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162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4000" y="500040"/>
            <a:ext cx="6696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vador Domingo Felipe Jacinto Dalí y Domèn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sistence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22:40:44Z</dcterms:created>
  <dc:creator>Noemi Wagner</dc:creator>
  <dc:description/>
  <dc:language>en-US</dc:language>
  <cp:lastModifiedBy>nwagner</cp:lastModifiedBy>
  <dcterms:modified xsi:type="dcterms:W3CDTF">2009-08-26T13:09:37Z</dcterms:modified>
  <cp:revision>3</cp:revision>
  <dc:subject/>
  <dc:title>Pablo Picasso Spain Three Musicians</dc:title>
</cp:coreProperties>
</file>